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1F6-14A5-4AB0-A0B7-2CFE7D78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BB7-7A3A-453F-A46C-BF6503A4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A7F-7048-4648-91EC-11C84556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83F-22F8-4E20-8CCD-28D9EE5C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E3A-CAA0-41AD-A945-E1E3F96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774-E363-4277-8272-72D44766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1BF-F713-4437-9D48-88E93C0A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C1D-A833-4A04-A75E-72DB5B11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46B-D385-4093-9C5A-013E74EA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657-2E42-4E22-BF0E-A344846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B1F-D908-44FA-BF5E-3D123F6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64F-20D6-418A-B3A4-89230D65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4B36-ABCE-43C4-928C-93CA7F8E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14415eDIwaFNgfZ_ph" descr=""/>
          <p:cNvPicPr/>
          <p:nvPr/>
        </p:nvPicPr>
        <p:blipFill>
          <a:blip r:embed="rId2"/>
          <a:stretch/>
        </p:blipFill>
        <p:spPr>
          <a:xfrm>
            <a:off x="-90360" y="0"/>
            <a:ext cx="573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6600" y="7621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2514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ني لَرافعٌ عينايَ إلى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يَداي ممدوت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ليك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استجب دعاي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p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1320" y="60948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سوع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ربُّ صخر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زي وتر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ك اتك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سمع صل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ستجب دُعاي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630118yLVwcYUxKT_ph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8580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وقت ضيق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حثتُ عن النج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جئتُ إليكَ قائ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استجب دُعا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96299ROkzHDyBvb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04920" y="22860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آتي إليك في هيكلِ قدس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أجثو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خاشعاً أمام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عرشِ قدسك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إسمع صلاتي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استجب دُعاي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08:52:27Z</dcterms:created>
  <dc:creator>SUZANNE.MD</dc:creator>
  <dc:description/>
  <dc:language>en-US</dc:language>
  <cp:lastModifiedBy>USER</cp:lastModifiedBy>
  <dcterms:modified xsi:type="dcterms:W3CDTF">2002-11-03T10:27:56Z</dcterms:modified>
  <cp:revision>2</cp:revision>
  <dc:subject/>
  <dc:title>PowerPoint Presentation</dc:title>
</cp:coreProperties>
</file>